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2F2-F4CD-4DDD-9B6B-87E0CCA5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1A8-B9F7-4682-B985-A23F1B0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576-BB07-4D26-A3D3-E65EF2B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07C-2186-4663-9D6D-61F77F27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B2E-E7B7-41D2-BA21-356D61A5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0B8-B0AB-491D-95A4-853826C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28B-0A55-452D-A73B-CE9C11E9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13F-237B-4D5C-B98C-1A214B0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241-33A3-4C9D-9DB6-178FE79E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648-5FC9-4CB4-8490-488887D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15D-9963-4B24-8E9E-DD257DC4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E5F-BD2C-4DE1-B1E8-A0CE57F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F26F-AB5D-430D-8064-45C7863DB633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A727-9A48-4238-8A11-CE8B8B29A49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1/1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architectu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CTM IPM TP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General topics inside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P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ans-Georg Kel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Apoxi/Infineon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Dietrich Olf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Brew/Qualcom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Martin Kolde (starting 15.03.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TTPCo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OpenPlug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825480"/>
          <a:ext cx="820728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25480"/>
                    <a:ext cx="82072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804000" y="6021360"/>
          <a:ext cx="914400" cy="71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ajor challenges for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Merger from HW and SW system architecture to one operational organization to focus an system issu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Build bridge between technology clusters and platform architectur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ture breakdown to architectural compon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sibility support for M</a:t>
            </a:r>
            <a:r>
              <a:rPr b="0" lang="en-US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Platform screening and evaluation for P</a:t>
            </a:r>
            <a:r>
              <a:rPr b="0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pic list for System architecture (over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e band chips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tform mapping and BSF feasibility chec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ultimedia/Imaging/HW Accel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ic platform framewor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ssaging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rows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nectiv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udio/Speech technolog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pplication enviro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Java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actory/Servic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tocol stack termination/Telephon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ystem architecture area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4160" y="5493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khard Düm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TPS 4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TPS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TPS 4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Burkhard Düm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Brows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I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LB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land Djermes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1-27T17:08:59Z</dcterms:modified>
  <cp:revision>142</cp:revision>
  <dc:subject/>
  <dc:title>PowerPoint 簡報</dc:title>
</cp:coreProperties>
</file>